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1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9980-BEE2-4C9D-9603-1B165DE8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F97-8D94-4D4E-99C5-5A628945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4F2-A5DE-469F-809B-CC8C9D75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5F2-3780-474C-8E31-842B8238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06B-D92C-4698-BDE1-1AE2981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4EF-4057-4A2E-B663-683284D1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5EA-25D7-40D8-B87E-B5CCC71E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B95-6DA2-4038-9F7B-2BBDF55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A52-D245-4050-8EF8-4DE7872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BAB-9835-4FF7-8660-4B858C21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73D-DF97-41CB-AA15-BC623E7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015-BA0E-45F1-9DC0-6F3888E2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E47-4C4B-47DD-BEE3-07E3274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CDD5B-BAF3-4DDE-A258-2D35E49C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0FB0B-45D1-4D03-8BA3-F7DD4D0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5D555-7FB5-4D16-9DE3-7EC1AD2E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C6741-8F87-454E-8192-B05745A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8B00E-3A82-4DBD-934F-27D2442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84D3E-BCEC-4125-A929-5241A9C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B1B35-DD9E-4CD9-B1CF-226B68E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C9C-82B4-4877-A284-250F650E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C1573-2FB2-4D49-9268-6DFE41A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9BB61-F077-4E7A-BAC5-F1D9038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71959-1E67-4DFC-9B0F-FD4F8CF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7499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AC920-3859-4E96-88C1-7E1F2CA3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2680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710760" y="198108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7432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72680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710760" y="413064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1AEFC-A214-4518-B2D6-45AD9EDE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499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43200" y="413064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9D6-29DE-4FAF-BAAE-9EAA024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7A1-AD96-41A9-AEFC-C7B1F15C007E}" type="slidenum"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b9b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b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b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-899 Smart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8000640" y="64771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5-24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Annie, J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b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-899 Smart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8000640" y="64771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5-24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20004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Annie, J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4f5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solidFill>
            <a:srgbClr val="b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0" y="6477120"/>
            <a:ext cx="2590920" cy="380880"/>
          </a:xfrm>
          <a:prstGeom prst="rect">
            <a:avLst/>
          </a:prstGeom>
          <a:solidFill>
            <a:srgbClr val="6a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590920" y="6477120"/>
            <a:ext cx="655308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52280" y="6477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05-650: I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819520" y="6477120"/>
            <a:ext cx="61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4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er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0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Annie, J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Medium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CF3F-B8A2-4CE4-92C9-4FCE66DEB0BE}" type="slidenum"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1219320" y="152388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Monthly XE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029200" y="44956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 K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ry Rodriguez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ne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3600" y="20570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20040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Medium-Roman"/>
              </a:rPr>
              <a:t>Annie, Jing, G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4876920" y="6477120"/>
            <a:ext cx="761760" cy="380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8:05:40Z</dcterms:created>
  <dc:creator>John Zimmerman</dc:creator>
  <dc:description/>
  <dc:language>en-US</dc:language>
  <cp:lastModifiedBy>Someone</cp:lastModifiedBy>
  <cp:lastPrinted>2004-11-02T19:28:16Z</cp:lastPrinted>
  <dcterms:modified xsi:type="dcterms:W3CDTF">2007-08-08T23:22:32Z</dcterms:modified>
  <cp:revision>74</cp:revision>
  <dc:subject/>
  <dc:title>designing for the Self:</dc:title>
</cp:coreProperties>
</file>